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7290-55B3-44F4-B744-1A7A84781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1BC4-A72A-4D7F-A601-92DCA608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0B36-6720-4A29-A322-FD497A123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D878-70BB-47D7-8D60-F7482F426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02F0-B2F5-4411-8825-8158A682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358D-DCBD-482D-8561-7C7FBF57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E678-8DB6-4CCB-BB7E-03623D69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B855-F587-4615-82AA-5A31D7EE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13E7-EB20-4CA9-BA83-BE563709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7B2E-F86D-41A7-A9C3-25ABDCE0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DA06-61F9-4C24-942A-EA7DD212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B391-CC40-416F-92AD-AE096861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2A30-FFE2-4AA8-86BC-8B64D369A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gTable: A Distributed Storage System for Structured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y Chang, Jeffrey Dean, Sanjay Ghemawat, Wilson C. Hsieh, Deborah A. Wallach, Mike Burrows, Tushar Chandra, Andrew Fikes, Robert E. Gruber @ Goo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ed by Richard Venut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is an arbitrary 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to data in a row is ato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w creation is implicit upon storing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ws ordered lexicograph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ws close together lexicographically usually on one or a small number of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diag1"/>
          <p:cNvPicPr/>
          <p:nvPr/>
        </p:nvPicPr>
        <p:blipFill>
          <a:blip r:embed="rId1"/>
          <a:stretch/>
        </p:blipFill>
        <p:spPr>
          <a:xfrm>
            <a:off x="0" y="1219320"/>
            <a:ext cx="902988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w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s of short row ranges are efficient and typically require communication with a small number of mach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exploit this property by selecting row keys so they get good locality for data ac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h.gatech.edu, math.uga.edu, phys.gatech.edu, phys.uga.ed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du.gatech.math, edu.gatech.phys, edu.uga.math, edu.uga.ph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um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umns have two-level name 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y:optional_qual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umn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of access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associated typ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fier gives unbounded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levels of indexing, if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diag1"/>
          <p:cNvPicPr/>
          <p:nvPr/>
        </p:nvPicPr>
        <p:blipFill>
          <a:blip r:embed="rId1"/>
          <a:stretch/>
        </p:blipFill>
        <p:spPr>
          <a:xfrm>
            <a:off x="114480" y="1143000"/>
            <a:ext cx="902952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st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store different versions of data in a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writes default to current time, but timestamps for writes can also be set explicitly by 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up op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turn most recent K valu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turn all values in timestamp range (or all values)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 families can be marked w/ attribu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nly retain most recent K values in a cel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eep values until they are older than K second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diag1"/>
          <p:cNvPicPr/>
          <p:nvPr/>
        </p:nvPicPr>
        <p:blipFill>
          <a:blip r:embed="rId1"/>
          <a:stretch/>
        </p:blipFill>
        <p:spPr>
          <a:xfrm>
            <a:off x="114480" y="1066680"/>
            <a:ext cx="902952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lementation – Three Major Compon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rary linked into every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master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ing tablets to tablet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cting addition and expiration of tablet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ancing tablet-server 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rbage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tablet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t servers handle read and write requests to its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lits tablets that have grown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 data doesn’t move through master server.  Clients communicate directly with tablet servers for reads and wri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lients never communicate with the master server, leaving it lightly loaded in pract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tables broken into tablets at row bound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t holds contiguous range of r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 can often choose row keys to achieve loc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m for ~100MB to 200MB of data per tab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ng machine responsible for ~100 tab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recove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machines each pick up 1 tablet for failed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ed load balanc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rate tablets away from overloaded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 makes load-balancing 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t 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ablets move around from server to server, given a row, how do clients find the right mach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find tablet whose row range covers the target 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diag2"/>
          <p:cNvPicPr/>
          <p:nvPr/>
        </p:nvPicPr>
        <p:blipFill>
          <a:blip r:embed="rId1"/>
          <a:stretch/>
        </p:blipFill>
        <p:spPr>
          <a:xfrm>
            <a:off x="1523880" y="4114800"/>
            <a:ext cx="54486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t Assig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tablet is assigned to one tablet server at a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ter server keeps track of the set of live tablet servers and current assignments of tablets to servers.  Also keeps track of unassigned tabl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tablet is unassigned, master assigns the tablet to an tablet server with sufficient 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/delete tables, column families, change meta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s (atom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(): write cells in a 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Cells(): delete cells in a 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Row(): delete all cells in a 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ner: read arbitrary cells in a big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row read is ato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restrict returned rows to a particular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sk for just data from 1 row, all row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sk for all columns, just certain column families, or specific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Table is a distributed storage system for managing structured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ed to scale to a very large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abytes of data across thousands of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or many Googl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indexing, Personalized Search, Google Earth, Google Analytics, Google Finance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, high-performance solution for all of Google’s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inements: Locality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group multiple column families into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cality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SSTable is created for each locality group in each tabl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gregating columns families that are not typically accessed together enables more efficient rea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ebTable, page metadata can be in one group and contents of the page in another 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inements: Comp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pportunities for com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values in the same row/column at different timest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values in different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values across adjacent r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-pass custom compressions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pass: compress long common strings across a large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pass: look for repetitions in small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emphasized, but good space reduction (10-to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inements: Bloom Fil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operation has to read from disk when desired SSTable isn’t 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number of accesses by specifying a Bloom fil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us ask if an SSTable might contain data for a specified row/column p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amount of memory for Bloom filters drastically reduces the number of disk seeks for read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implies that most lookups for non-existent rows or columns do not need to touch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xkcd.com/327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exploits_of_a_mom"/>
          <p:cNvPicPr/>
          <p:nvPr/>
        </p:nvPicPr>
        <p:blipFill>
          <a:blip r:embed="rId1"/>
          <a:stretch/>
        </p:blipFill>
        <p:spPr>
          <a:xfrm>
            <a:off x="457200" y="1600200"/>
            <a:ext cx="845676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ts of (semi-)structured data at Goo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s, crawl metadata, links, anchors, pagerank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-user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preference settings, recent queries/search result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graphic lo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entities (shops, restaurants, etc.), roads, satellite image data, user annotation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 is l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lions of URLs, many versions/page (~20K/ver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ndreds of millions of users, thousands or q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TB+ of satellite imag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not just use commercial D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 is too large for most commercial data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if it weren’t, cost would be very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internally means system can be applied across many projects for low incremental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-level storage optimizations help performance significa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do when running on top of a databas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asynchronous processes to be continuously updating different pieces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access to most current data at any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suppor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high read/write rates (millions of ops per seco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 scans over all or interesting subsets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 joins of large one-to-one and one-to-many data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want to examine data changes over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Contents of a web page over multiple craw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multi-level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ult-tolerant, persis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usands of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abytes of in-memor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abyte of disk-base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lions of reads/writes per second, efficient s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mana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s can be added/removed dynam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s adjust to load im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Bl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blo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gle File System (GFS): Raw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er: schedules jobs onto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k service: distributed lock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Reduce: simplified large-scale data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Table uses of building blo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FS: stores persistent data (SSTable file format for storage of 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er: schedules jobs involved in BigTable ser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k service: master election, location bootstrapp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Reduce: often used to read/write BigTabl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Data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igTable is a sparse, distributed persistent multi-dimensional sorted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row, column, timestamp) -&gt; cell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match for most Google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diag1"/>
          <p:cNvPicPr/>
          <p:nvPr/>
        </p:nvPicPr>
        <p:blipFill>
          <a:blip r:embed="rId1"/>
          <a:stretch/>
        </p:blipFill>
        <p:spPr>
          <a:xfrm>
            <a:off x="0" y="2971800"/>
            <a:ext cx="902988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Tab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keep copy of a large collection of web pages and relate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URLs as row 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aspects of web page as column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contents of web pages i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ent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lumn under the timestamps when they were fetch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diag1"/>
          <p:cNvPicPr/>
          <p:nvPr/>
        </p:nvPicPr>
        <p:blipFill>
          <a:blip r:embed="rId1"/>
          <a:stretch/>
        </p:blipFill>
        <p:spPr>
          <a:xfrm>
            <a:off x="0" y="1295280"/>
            <a:ext cx="902988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01:23:34Z</dcterms:created>
  <dc:creator>Richard Venutolo</dc:creator>
  <dc:description/>
  <dc:language>en-US</dc:language>
  <cp:lastModifiedBy>tanel</cp:lastModifiedBy>
  <dcterms:modified xsi:type="dcterms:W3CDTF">2009-11-11T09:56:47Z</dcterms:modified>
  <cp:revision>4</cp:revision>
  <dc:subject/>
  <dc:title>Bigtable: A Distributed Storage System for Structured Data</dc:title>
</cp:coreProperties>
</file>